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D1E-54A5-48E5-9482-8189DE8C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033-A9C2-4E36-9BB0-008EDC6A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40FE-58CB-4408-A898-1E60D094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32BB-F909-4825-9A50-1B94C566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F870-9695-4BB9-942D-D5F970F4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85B-61CA-4186-84F2-2824708E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5DCE-D898-480F-B8FA-4CBDE196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43B4-250A-440A-8EAB-251F1419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06F-6A8A-495F-93DA-30DC4E23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156D-822B-4530-AEE8-F3EFF4BD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1DB-EC50-4AF0-8F93-BA806A5D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7519-C621-4ABD-88F7-985CF8B5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1552-E56B-43EC-97B9-EA9BEB273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716040"/>
            <a:ext cx="9144000" cy="63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ken portion (Family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ther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the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ster or br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s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ndm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nd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nt or un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re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rne/o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nten/u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der Mi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Preposi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wisc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_______/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809880" y="228600"/>
            <a:ext cx="3962520" cy="71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 (family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included all family member names and relationshi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missing 2 family member names and relationshi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missing family member names and relationshi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missing 4 family member names and relationshi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– missing more than 5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 (direction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– included all direction words &amp;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missing 1 or 2 direction word &amp;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– missing 4 or more direction words &amp;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nunciation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pronunciation sound very close to a native speakers for this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pronunciation does not interfere with presentation, but some mispronunciation (pronounced like Engl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many words were mispronounced, however, a sympathetic listener could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understanding was difficult.  Understanding could only be achieved by reading the written scr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Very few pauses or very little stumbling over words, sounds close to  a native speaker’s language for this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esitation, but thoughts are complete phrased and intoned prop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ppy, slow, many thoughts are not phrased and intoned prop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ort (spok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added extra information in th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fulfilled all the required elements, but did nothing to enhance th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missing family members (pictures and inform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0" y="0"/>
            <a:ext cx="373392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 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447920" y="912960"/>
            <a:ext cx="251460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7924680" y="1143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/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304920"/>
            <a:ext cx="9144000" cy="69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ritten por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r /brother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s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dmoth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dfa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nt or unc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t/g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eber/bess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 liebsten/ am best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os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wisch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b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r/üb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er/hi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 (numbers written out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time activ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 in scho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you are fr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572000" y="20520"/>
            <a:ext cx="4572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included all required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missing 2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missing 4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– missing 6 or more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ura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mostly correct, mistakes are minor (word order or spel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mostly correct, mistakes are mostly minor, but errors exists in the required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mistakes make meaning unclear in some places, or mistakes with requirements and verb conju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many mistakes in the requirements show inadequate mastery of the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o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- added family members or extra vocabulary from previous lessons to enhance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fulfilled all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did not complete the project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laborative Effo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Student collaborated with teacher to revis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student put for minimal effort at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–no 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4800600" y="4267080"/>
            <a:ext cx="3429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/32 (this si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/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/ 77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63360" y="-136440"/>
            <a:ext cx="148608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18:47:32Z</dcterms:created>
  <dc:creator>udsd</dc:creator>
  <dc:description/>
  <dc:language>en-US</dc:language>
  <cp:lastModifiedBy>Alissa</cp:lastModifiedBy>
  <dcterms:modified xsi:type="dcterms:W3CDTF">2015-04-14T01:00:03Z</dcterms:modified>
  <cp:revision>29</cp:revision>
  <dc:subject/>
  <dc:title>Slide 1</dc:title>
</cp:coreProperties>
</file>